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6E98-1484-4405-9A26-CB805A7A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2869-D0E7-449F-99C8-310A9525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DFA5-6EDC-4A58-BE98-56A41056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A67A-C999-4125-AC52-FEB75787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9744-6D1B-4A9F-A160-13EE24B3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9C43-E6A8-4476-B2E1-2F75AB7B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FFAB-DB01-4A54-8204-E6DF206D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E8EE-C00E-4C95-8DD0-88582159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6DC7-B0B3-4996-A47E-DD25BA95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6DC8-15D8-4635-9025-92A576F9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6663-336C-4357-9A87-B66267E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34E1-2F8C-4BB6-886C-15CBC29B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93B3-733D-4300-9217-DDDBBD1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C72E-BD36-4A12-B9D4-E378B3C9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CDE3-B329-4601-8D10-49023BFB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B8DB-E9ED-418C-B5CE-AD052D07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3C56-8F79-4BEA-91AD-73CE5202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DC58-B894-4A97-9F41-519DBDE7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813A2-CE2C-49FE-B6B1-D00E1843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30AD-690C-474C-A07D-7EB0B23D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7D9A-AB98-4E45-8E09-65408620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B0D1-F5F5-4CE2-9AB1-0266EC1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8F1A-2F95-4164-9DD2-DBDB3C37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D91C-4E3B-4717-B098-DFB6993F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6321-53E2-480C-A794-066FE760B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372A-22A6-482E-9A2B-03F5DE564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ding and Subtracting Rational Express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1066680" y="228600"/>
            <a:ext cx="6171840" cy="1371240"/>
            <a:chOff x="1066680" y="228600"/>
            <a:chExt cx="6171840" cy="1371240"/>
          </a:xfrm>
        </p:grpSpPr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1066680" y="267120"/>
                  <a:ext cx="2411280" cy="125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"/>
                <p:cNvSpPr txBox="1"/>
                <p:nvPr/>
              </p:nvSpPr>
              <p:spPr>
                <a:xfrm>
                  <a:off x="3504240" y="228600"/>
                  <a:ext cx="3734280" cy="13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990720" y="4800600"/>
                <a:ext cx="533376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304920" y="2239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33526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to get the common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590920" y="4876920"/>
                <a:ext cx="9903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590920" y="5465880"/>
                <a:ext cx="9903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572000" y="2270160"/>
                <a:ext cx="2286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"/>
          <p:cNvGrpSpPr/>
          <p:nvPr/>
        </p:nvGrpSpPr>
        <p:grpSpPr>
          <a:xfrm>
            <a:off x="1523880" y="228600"/>
            <a:ext cx="5334120" cy="1273320"/>
            <a:chOff x="1523880" y="228600"/>
            <a:chExt cx="5334120" cy="127332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1523880" y="228600"/>
                  <a:ext cx="5334120" cy="12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 </m:t>
                              </m:r>
                            </m:num>
                            <m:den/>
                          </m:f>
                        </m:e>
                      </m:d>
                      <m:r>
                        <m:t xml:space="preserve">−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3124080" y="343080"/>
                  <a:ext cx="9907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3124080" y="893880"/>
                  <a:ext cx="99072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384120" y="2362320"/>
                <a:ext cx="48704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304920" y="17064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the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80" y="3886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5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 the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57200" y="4648320"/>
                <a:ext cx="25909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3200400" y="380880"/>
                <a:ext cx="25909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457200" y="185904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6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the num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7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pl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2120" y="5029200"/>
                <a:ext cx="1904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93" name=""/>
          <p:cNvGrpSpPr/>
          <p:nvPr/>
        </p:nvGrpSpPr>
        <p:grpSpPr>
          <a:xfrm>
            <a:off x="732240" y="2357280"/>
            <a:ext cx="5223600" cy="1308240"/>
            <a:chOff x="732240" y="2357280"/>
            <a:chExt cx="5223600" cy="1308240"/>
          </a:xfrm>
        </p:grpSpPr>
        <p:sp>
          <p:nvSpPr>
            <p:cNvPr id="594" name=""/>
            <p:cNvSpPr/>
            <p:nvPr/>
          </p:nvSpPr>
          <p:spPr>
            <a:xfrm>
              <a:off x="1313640" y="2357280"/>
              <a:ext cx="25380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74400" y="2357280"/>
              <a:ext cx="25380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5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3544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2104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2292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0240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60480" y="3156120"/>
              <a:ext cx="2155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94480" y="250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73960" y="250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75480" y="250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761440" y="250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5156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63752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3904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18520" y="3048120"/>
              <a:ext cx="194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14680" y="3156120"/>
              <a:ext cx="2278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1548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3412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55840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7092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9900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1800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0700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6720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619640" y="26179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9920" y="316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76000" y="316404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98480" y="262404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67160" y="262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98640" y="262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86440" y="28638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593800" y="316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59880" y="316404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66520" y="262404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62000" y="262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44440" y="262404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2240" y="28638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6360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7612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0004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1904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4748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60000" y="320832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66640" y="26686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361520" y="2668680"/>
              <a:ext cx="28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3886200" y="2786040"/>
            <a:ext cx="838080" cy="22392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24280" y="3281400"/>
            <a:ext cx="838440" cy="22392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the following fra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619200" y="1747800"/>
                <a:ext cx="298440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LC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838080" y="1600200"/>
                <a:ext cx="16765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5800" y="4952880"/>
                <a:ext cx="34290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762120" y="3200400"/>
                <a:ext cx="22860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y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cap the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to get a common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num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47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the fraction (if possib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steps work the same with rational express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828800" y="1752480"/>
                <a:ext cx="193032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94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9800" y="3314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the 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9800" y="3822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ltiply to get a common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66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dd the numerat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9800" y="5181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78200" y="3224160"/>
            <a:ext cx="412920" cy="433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4083120" y="4062240"/>
            <a:ext cx="412560" cy="4334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4724280" y="4595760"/>
            <a:ext cx="412920" cy="4334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3016080" y="5103720"/>
            <a:ext cx="412920" cy="4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4019400" y="1752480"/>
                <a:ext cx="8859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the rational expres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914400" y="1447920"/>
                <a:ext cx="266688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657600" y="1473120"/>
                <a:ext cx="273384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3352680" y="3048120"/>
                <a:ext cx="28958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609480" y="3429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C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352680" y="4724280"/>
                <a:ext cx="281952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5969160" y="1614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969160" y="2214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tract the rational express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251460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600200" y="3352680"/>
                <a:ext cx="1143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4127400" y="1359000"/>
                <a:ext cx="327672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/>
                      <m:den/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380880" y="3505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C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3695760" y="2895480"/>
                <a:ext cx="3286080" cy="16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3733920" y="4648320"/>
                <a:ext cx="281916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5156280" y="1371600"/>
            <a:ext cx="380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alisto MT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18120" y="2075040"/>
            <a:ext cx="380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alisto MT"/>
              </a:rPr>
              <a:t>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34320" y="2057400"/>
            <a:ext cx="761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sto MT"/>
              </a:rPr>
              <a:t>y</a:t>
            </a:r>
            <a:r>
              <a:rPr b="0" lang="en-US" sz="3400" spc="-1" strike="noStrike" baseline="30000">
                <a:solidFill>
                  <a:srgbClr val="000000"/>
                </a:solidFill>
                <a:latin typeface="Calisto MT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1447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sto MT"/>
              </a:rPr>
              <a:t>y</a:t>
            </a:r>
            <a:r>
              <a:rPr b="0" lang="en-US" sz="3400" spc="-1" strike="noStrike" baseline="30000">
                <a:solidFill>
                  <a:srgbClr val="000000"/>
                </a:solidFill>
                <a:latin typeface="Calisto MT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the rational expres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33520" y="1371600"/>
                <a:ext cx="23619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28600" y="4114800"/>
                <a:ext cx="2286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2971800" y="1295280"/>
                <a:ext cx="59436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304920" y="3276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C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48120" y="2971800"/>
                <a:ext cx="53337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3048120" y="4724280"/>
                <a:ext cx="297180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6172200" y="4724280"/>
                <a:ext cx="26668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4724280" y="1447920"/>
                <a:ext cx="9144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724280" y="1995480"/>
                <a:ext cx="9144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7710480" y="1447920"/>
                <a:ext cx="8841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696080" y="1995480"/>
                <a:ext cx="884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tra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914400" y="1477800"/>
                <a:ext cx="289548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762120" y="3981600"/>
                <a:ext cx="4419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304920" y="31543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the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6:35:01Z</dcterms:created>
  <dc:creator>PA Department of Education</dc:creator>
  <dc:description/>
  <dc:language>en-US</dc:language>
  <cp:lastModifiedBy>Karyn Baize</cp:lastModifiedBy>
  <dcterms:modified xsi:type="dcterms:W3CDTF">2009-02-08T16:22:00Z</dcterms:modified>
  <cp:revision>5</cp:revision>
  <dc:subject/>
  <dc:title>PowerPoint Presentation</dc:title>
</cp:coreProperties>
</file>